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  <p:custShowLst>
    <p:custShow name="Chapter" id="0">
      <p:sldLst>
        <p:sld r:id="rId7"/>
        <p:sld r:id="rId9"/>
        <p:sld r:id="rId6"/>
      </p:sldLst>
    </p:custShow>
    <p:custShow name="ELI Sect 4" id="1">
      <p:sldLst>
        <p:sld r:id="rId4"/>
        <p:sld r:id="rId5"/>
        <p:sld r:id="rId6"/>
        <p:sld r:id="rId7"/>
        <p:sld r:id="rId8"/>
        <p:sld r:id="rId9"/>
        <p:sld r:id="rId10"/>
        <p:sld r:id="rId11"/>
        <p:sld r:id="rId12"/>
        <p:sld r:id="rId13"/>
        <p:sld r:id="rId14"/>
        <p:sld r:id="rId15"/>
        <p:sld r:id="rId16"/>
        <p:sld r:id="rId17"/>
        <p:sld r:id="rId18"/>
      </p:sldLst>
    </p:custShow>
    <p:custShow name="ELI STP" id="2">
      <p:sldLst>
        <p:sld r:id="rId10"/>
        <p:sld r:id="rId12"/>
        <p:sld r:id="rId17"/>
        <p:sld r:id="rId18"/>
        <p:sld r:id="rId13"/>
        <p:sld r:id="rId14"/>
        <p:sld r:id="rId15"/>
        <p:sld r:id="rId16"/>
        <p:sld r:id="rId8"/>
      </p:sldLst>
    </p:custShow>
    <p:custShow name="Image/Math" id="3">
      <p:sldLst>
        <p:sld r:id="rId11"/>
        <p:sld r:id="rId3"/>
      </p:sldLst>
    </p:custShow>
    <p:custShow name="Transparencies" id="4">
      <p:sldLst>
        <p:sld r:id="rId3"/>
      </p:sldLst>
    </p:custShow>
    <p:custShow name="VIs Con" id="5">
      <p:sldLst>
        <p:sld r:id="rId3"/>
      </p:sldLst>
    </p:custShow>
    <p:custShow name="Chapter menu" id="6">
      <p:sldLst>
        <p:sld r:id="rId4"/>
        <p:sld r:id="rId5"/>
        <p:sld r:id="rId6"/>
        <p:sld r:id="rId7"/>
        <p:sld r:id="rId8"/>
        <p:sld r:id="rId9"/>
        <p:sld r:id="rId10"/>
        <p:sld r:id="rId11"/>
        <p:sld r:id="rId12"/>
        <p:sld r:id="rId13"/>
        <p:sld r:id="rId14"/>
        <p:sld r:id="rId15"/>
        <p:sld r:id="rId16"/>
        <p:sld r:id="rId17"/>
        <p:sld r:id="rId18"/>
        <p:sld r:id="rId19"/>
        <p:sld r:id="rId3"/>
      </p:sldLst>
    </p:custShow>
    <p:custShow name="Test Prep" id="7">
      <p:sldLst>
        <p:sld r:id="rId3"/>
      </p:sldLst>
    </p:custShow>
    <p:custShow name="Brain Food" id="8">
      <p:sldLst>
        <p:sld r:id="rId3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685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685440"/>
            <a:ext cx="8229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earth_sci_conten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228600" y="5724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72388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tion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>
            <a:hlinkClick r:id="" action="ppaction://hlinkshowjump?jump=previousslide"/>
          </p:cNvPr>
          <p:cNvSpPr/>
          <p:nvPr/>
        </p:nvSpPr>
        <p:spPr>
          <a:xfrm>
            <a:off x="4724280" y="6095880"/>
            <a:ext cx="990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>
            <a:hlinkClick r:id="" action="ppaction://hlinkshowjump?jump=nextslide"/>
          </p:cNvPr>
          <p:cNvSpPr/>
          <p:nvPr/>
        </p:nvSpPr>
        <p:spPr>
          <a:xfrm>
            <a:off x="5715000" y="6095880"/>
            <a:ext cx="1066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781680" y="6095880"/>
            <a:ext cx="1143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0">
            <a:hlinkClick r:id="" action="ppaction://hlinkshowjump?jump=endshow"/>
          </p:cNvPr>
          <p:cNvSpPr/>
          <p:nvPr/>
        </p:nvSpPr>
        <p:spPr>
          <a:xfrm>
            <a:off x="8039160" y="60958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684360"/>
            <a:ext cx="8229600" cy="73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ection 4: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recasting the Weather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review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39480" indent="-3394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bjective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39480" indent="-3394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obal Weather Monitoring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39480" indent="-3394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ather Map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39480" indent="-3394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ather Forecast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39480" indent="-3394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olling the Weather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39480" indent="-3394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obar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39480" indent="-3394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ps in Action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7979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Weather Forecast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forecast the weather, meteorologists regularly plot to the intensity and path of weather systems on maps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orologists then study the must recent weather map and compare it with maps from previous hours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following the progress of weather systems, meteorologist can forecast the weather. 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7979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Weather Forecast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Weather Data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uters models can show the possible weather conditions for several days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ring models helps meteorologists better predict weather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using computers, scientists can manipulate data on temperature and pressure to simulate errors in measuring these data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7979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Weather Forecast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Types of Forecasts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orologists make four types of forecasts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aily forecast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redict weather conditions for a 48-hour period.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xtended forecast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ook ahead 3 to 7 days.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edium range forecast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ook ahead 8 to 14 days.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Long-range forecast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over monthly and seasonal periods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urate weather forecasts can be made for *. However, accuracy decreases with each day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7979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Weather Forecast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evere Weather Watches and Warning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main goal of meteorology is to reduce the amount of destruction caused by severe weather by forecasting severe weather early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wat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issued when *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warn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given when *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7979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ontrolling the Weather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86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meteorologists are investigating methods of controlling rain, hail, and lightning.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ently, the most researched method for producing rain has bee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loud seed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oud seeding can also be used to prevent more severe precipitation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7979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ontrolling the Weather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Hurricane Contro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urricanes have also been seeded with *in an effort to reduce the intensity of the storm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ring Project Stormfury, which took place from 1962 to 1983, four hurricanes were seeded, and the project had mixed results.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ientists have, for the most part, abandoned storm and hurricane control because it is not an attainable goal with existing technology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7979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ontrolling the Weather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Lightning Contro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eding of potential lightning storms with silver-iodide nuclei has *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ever, no conclusive results have been obtained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32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Maps in Action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11000" y="1574280"/>
            <a:ext cx="73897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ather-Related Disasters, 1980–2005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81" name="Picture 9" descr=""/>
          <p:cNvPicPr/>
          <p:nvPr/>
        </p:nvPicPr>
        <p:blipFill>
          <a:blip r:embed="rId1"/>
          <a:stretch/>
        </p:blipFill>
        <p:spPr>
          <a:xfrm>
            <a:off x="1936800" y="2146320"/>
            <a:ext cx="5270400" cy="377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xpl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weather stations communicate weather data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xpl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a weather map is created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xpl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computer models help meteorologists forecast weather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ree types of weather that meteorologists have attempted to control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7979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Global Weather Monitoring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ather stations around the world exchange the weather information they have collected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World Meteorological Organization (WMO) sponsors a program calle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promote the rapid exchange of weather information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also offers advice on the effect of weather on natural resource and on human activities, such as farming and transportation.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7979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Weather Maps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Weather Symbol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tation 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on weather symbols describe cloud cover, wind speed, wind direction, and weather conditions, such as type of precipitation and storm activity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7979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Weather Map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Weather Symbols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, continued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information included in the station model are the air temperature and the dew point.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ew point indicates how high the humidity of the air is, or how much water is in the air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tation model also indicates the atmospheric pressure by using a three-digit number in the upper right hand corner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Weather Map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67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iagram below shows the different weather symbols used on weather maps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57" name="Picture 9" descr="Untitled-6 copy"/>
          <p:cNvPicPr/>
          <p:nvPr/>
        </p:nvPicPr>
        <p:blipFill>
          <a:blip r:embed="rId1"/>
          <a:stretch/>
        </p:blipFill>
        <p:spPr>
          <a:xfrm>
            <a:off x="685800" y="2286000"/>
            <a:ext cx="73152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7979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Weather Map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lotting Temperature and Pressure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 are calle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sotherm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 are calle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soba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pacing and shape of the isobars help meteorologists interpret their observations about the speed and direction of the wind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7979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Weather Map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lotting Fronts and Precipitation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weather maps mark the locations of fronts and areas of precipitation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onts are identified by sharp changes in *.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as of precipitation are commonly marked by using colors or symbols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670572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Weather Map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67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iagram below shows an example of a typical weather map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64" name="Picture 9" descr="Untitled-7 copy"/>
          <p:cNvPicPr/>
          <p:nvPr/>
        </p:nvPicPr>
        <p:blipFill>
          <a:blip r:embed="rId1"/>
          <a:stretch/>
        </p:blipFill>
        <p:spPr>
          <a:xfrm>
            <a:off x="1803240" y="2311560"/>
            <a:ext cx="6324840" cy="363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it Rocksund</dc:creator>
  <dc:description/>
  <dc:language>en-US</dc:language>
  <cp:lastModifiedBy>trocksund</cp:lastModifiedBy>
  <cp:lastPrinted>2004-02-20T14:12:55Z</cp:lastPrinted>
  <dcterms:modified xsi:type="dcterms:W3CDTF">2014-05-02T15:22:51Z</dcterms:modified>
  <cp:revision>629</cp:revision>
  <dc:subject/>
  <dc:title>No Slide Title</dc:title>
</cp:coreProperties>
</file>